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80D-63E6-4766-9401-61BC434D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2D6-AE97-4F3A-A860-B38CB898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90E-7686-4D25-A5BE-5F39EE85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0B7-44D5-4148-8098-564FA6B6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FB87-F53D-451E-848C-53667B00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FAA-CBFB-49D4-ACC2-80C891DA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D99-CF7F-435D-AE02-4F2DC586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4EE-EBD5-4D6E-9B19-8B36C502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3A0-0731-4E82-828E-992EA675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F44-F091-48D5-912A-47409368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246-048A-4C42-9E81-CC997DB3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D02-F34A-4B0D-9AD0-120E6E8C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5AFA-AA43-423D-92BF-D903629C91E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3333cc"/>
                </a:solidFill>
                <a:latin typeface="Times New Roman"/>
              </a:rPr>
              <a:t>MEMORIA DE SOSTENIBI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r. Juan José Gi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3333cc"/>
                </a:solidFill>
                <a:latin typeface="Times New Roman"/>
              </a:rPr>
              <a:t>DIMENSIÓN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Practicas laboral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laciones labo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alud y seguridad en el 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ormación y edu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versidad e igualdad de 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3333cc"/>
                </a:solidFill>
                <a:latin typeface="Times New Roman"/>
              </a:rPr>
              <a:t>DIMENSIÓN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Derechos humano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ácticas de inversión y contra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 discri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ibertad de aso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xplotación infan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 for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ácticas de segu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3333cc"/>
                </a:solidFill>
                <a:latin typeface="Times New Roman"/>
              </a:rPr>
              <a:t>DIMENSIÓN SOCI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440" y="1428840"/>
            <a:ext cx="8172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Desempeño socia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unidad: alcance y efectividad pr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rrupción: riesgo y prácticas anticorru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olítica pública: contribución a partidos políticos, actividades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lobb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etencia desleal: causas relacion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mplimiento normativo: sanciones y mul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3333cc"/>
                </a:solidFill>
                <a:latin typeface="Times New Roman"/>
              </a:rPr>
              <a:t>CONC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7160" y="164268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Sostenibilidad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: atender las necesidades de las generaciones presentes sin afectar las necesidades de las futura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a memoria GRI es un reporte de gestión que muestra aspectos que no reflejan los estados contab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Aporta: reputación, credibilidad, calidad de la gestión y del gobierno corporativo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859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3333cc"/>
                </a:solidFill>
                <a:latin typeface="Times New Roman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571560"/>
            <a:ext cx="64008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3333cc"/>
                </a:solidFill>
                <a:latin typeface="Times New Roman"/>
              </a:rPr>
              <a:t>INFORMACIÓN SOBRE RESPONSABILIDAD SO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últiples iniciativas: ítem en la memoria, balance social, otros reportes específ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uías nacionales e internacionales para la información de contenido social y ambiental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Global Reporting Iniciative GRI, OCDE Guidelines, ISO 26000, AA 1000 del Institute of Social and Ethical Accontability, Ley 25847 y el Proyecto 23 de R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3333cc"/>
                </a:solidFill>
                <a:latin typeface="Times New Roman"/>
              </a:rPr>
              <a:t>PROYECTO 23 DE 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480" y="1928520"/>
            <a:ext cx="84294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gún el proyecto de la Federación de Consejos, el Balance Social compre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Times New Roman"/>
              </a:rPr>
              <a:t>La Memoria de Sostenibilidad según el GRI 3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Times New Roman"/>
              </a:rPr>
              <a:t>El Estado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proyecto considera una modalidad de aplicación para los entes pequeños (EPE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3333cc"/>
                </a:solidFill>
                <a:latin typeface="Times New Roman"/>
              </a:rPr>
              <a:t>MEMORIA DE SOSTENIBILIDAD (GRI - 3.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pósito: medir, informar y rendir cuenta de la sostenibilidad frente a los grupos de interés. Contenidos bás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erfil de 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foque de la dir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cadores de desemp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3333cc"/>
                </a:solidFill>
                <a:latin typeface="Times New Roman"/>
              </a:rPr>
              <a:t>LA DEFINICIÓN DE 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ios para definir conteni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teri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ticipación de los grup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texto de sostenibilidad (impacto dentro de su contex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xhaus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3333cc"/>
                </a:solidFill>
                <a:latin typeface="Times New Roman"/>
              </a:rPr>
              <a:t>CALIDAD DE LA 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85724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ios para definir calidad de la memo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quilibrio (aspectos positivos y negativ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cisión  (cualitativa como cuantitati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eriod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ar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iabilidad (compilación, registro y análi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3333cc"/>
                </a:solidFill>
                <a:latin typeface="Times New Roman"/>
              </a:rPr>
              <a:t>INDICADORES DESEMPEÑ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s-ES" sz="3600" spc="-1" strike="noStrike">
                <a:solidFill>
                  <a:srgbClr val="3333cc"/>
                </a:solidFill>
                <a:latin typeface="Times New Roman"/>
              </a:rPr>
              <a:t>Dimension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conó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mbien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dimensión social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divide en: Aspectos laborales, derechos humanos, sociedad y responsabilidad sobre los produc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3333cc"/>
                </a:solidFill>
                <a:latin typeface="Times New Roman"/>
              </a:rPr>
              <a:t>DIMENSIÓN ECONÓ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mpacto de la actividad sobre las condiciones económicas de los grupos de interé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alor económico generado y distribuido, programas sociales, subvenciones recib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esencia en el mercado: comparación salarios con los de mercado, gasto en proveedores y contratos lo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mpactos económicos indirectos: inversiones en infraestructura y servicios de beneficio públ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3333cc"/>
                </a:solidFill>
                <a:latin typeface="Times New Roman"/>
              </a:rPr>
              <a:t>DIMENSIÓN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2920" y="1428840"/>
            <a:ext cx="8786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mpacto de las actividades en los sistemas natur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ateriales: tipo y cantidades ut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ergía: tipo de fuente, ahorros, uso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gua: cantidad y fuentes, proporción del agua tratada y reuti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misiones de gases, vertido aguas residuales, cantidades de residuos gene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y servicios: impacto ambiental, materiales recuper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nsporte: impacto materiales, productos y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5:35:45Z</dcterms:created>
  <dc:creator>CPCECABA</dc:creator>
  <dc:description/>
  <dc:language>en-US</dc:language>
  <cp:lastModifiedBy>Rafaela</cp:lastModifiedBy>
  <dcterms:modified xsi:type="dcterms:W3CDTF">2013-01-10T23:22:15Z</dcterms:modified>
  <cp:revision>19</cp:revision>
  <dc:subject/>
  <dc:title>X CONGRESO INTERNACIONAL DE COSTOS “CONTABILIDAD, CONTROL, AUDITORÍA, GESTIÓN DE COSTOS Y MUNDIALIZACIÓN”</dc:title>
</cp:coreProperties>
</file>